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561-E7D8-4E5D-AE31-700D2576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2D7-76A0-4BC2-9394-F43E839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83C-39E2-4DC4-843E-5657CDF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28E-F4D5-4C97-B14A-3F9A2FAD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7FA-ACA1-4591-8AC7-2E641307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933-FE2C-4B04-93E6-D26072D1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2BA-69E6-4F6E-906A-1C28A31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87B-407A-4C71-850A-7C3244A9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011-43AC-475C-B9DD-D0A19AE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8AC-10B2-4454-B618-530FCFB3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855-65CA-448F-9699-9A0E5A41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6E9-7CFC-4CF7-BFE4-EB421351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4"/>
          <p:cNvSpPr/>
          <p:nvPr/>
        </p:nvSpPr>
        <p:spPr>
          <a:xfrm>
            <a:off x="-114480" y="2678040"/>
            <a:ext cx="9410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Straight Connector 5"/>
          <p:cNvSpPr/>
          <p:nvPr/>
        </p:nvSpPr>
        <p:spPr>
          <a:xfrm>
            <a:off x="-114480" y="1949400"/>
            <a:ext cx="941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923760" y="595440"/>
            <a:ext cx="6615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"/>
                <a:ea typeface="Arial"/>
              </a:rPr>
              <a:t>Presentation</a:t>
            </a: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491160" y="808200"/>
            <a:ext cx="1973520" cy="108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67B59-D027-4812-8297-E9C205C371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1000" y="2894040"/>
            <a:ext cx="877572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BS - Learning From Experience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46040" y="2030040"/>
            <a:ext cx="7832880" cy="6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vid Anderson and Neil Findlay, PBS Review Pan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ems to consi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4632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gress since October 200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formance of the Panel and Secretari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itability of the Standa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technical mat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ad heigh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loiting new techn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vement limit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owth of PB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Chart 3" descr=""/>
          <p:cNvPicPr/>
          <p:nvPr/>
        </p:nvPicPr>
        <p:blipFill>
          <a:blip r:embed="rId2"/>
          <a:stretch/>
        </p:blipFill>
        <p:spPr>
          <a:xfrm>
            <a:off x="682560" y="1901880"/>
            <a:ext cx="78948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1:08:43Z</dcterms:created>
  <dc:creator>Robert Black</dc:creator>
  <dc:description/>
  <dc:language>en-US</dc:language>
  <cp:lastModifiedBy>David &amp; Sue Anderson</cp:lastModifiedBy>
  <dcterms:modified xsi:type="dcterms:W3CDTF">2013-03-01T06:41:52Z</dcterms:modified>
  <cp:revision>15</cp:revision>
  <dc:subject/>
  <dc:title>PowerPoint Presentation</dc:title>
</cp:coreProperties>
</file>