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F7F-C107-481A-9E68-689FE4B6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1D2-1953-43D0-8F99-869E0486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5A8-ED06-456C-9C22-53F9D7EB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F96-1634-45EE-A7F7-F10EFD3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C43-B80E-40E0-A788-A35C8EF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EBC-B19F-4A26-B93F-D108DCA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2AB-AEFD-46CC-A0A8-C3C6826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B07-CF81-47B9-962C-25ABD97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B3A-90F5-4C82-8940-E731DFF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D57-2DBB-495D-8E1A-C32D82E8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F0E-BA2C-427B-95C4-56CF4661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49F-74EC-4282-95B2-EC6AAF4D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-114480" y="2678040"/>
            <a:ext cx="941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Straight Connector 5"/>
          <p:cNvSpPr/>
          <p:nvPr/>
        </p:nvSpPr>
        <p:spPr>
          <a:xfrm>
            <a:off x="-114480" y="1949400"/>
            <a:ext cx="941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923760" y="595440"/>
            <a:ext cx="6615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491160" y="808200"/>
            <a:ext cx="1973520" cy="10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88D70-5F78-4EF4-A165-7F0898D9DA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680" y="2894040"/>
            <a:ext cx="864864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11-12 PBS Secretariat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ional Transport Commi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1800" y="2030040"/>
            <a:ext cx="728676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y Sri Kann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2 Sta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122 new applications, up 58% from 2011 (77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118 approved at 96.7% efficienc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Over 450 vehicle combinations (411 PBS Final Approvals), up from 216 in 2011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Of the total 1150 vehicles approved by PBS since 2007, 450 or 41% were approved in 2012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 the last 6 months of 2012 over 280 vehicle combinations were approved. More than 2.5 safer and efficient PBS vehicles hit Australian roads every business da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Received applications for and approved 7 new PBS Certifi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 Dec 2012, 54 vehicle combinations were appro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pplication quality, common mistakes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Generally good qu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echnical summa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Brief intro to the desig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Worst case scenario – including partial load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Safety factor u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nything the PRP needs to know – innovations, critical elements, too close to a minimum requirement, sensitivity stud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f a vehicle is too close to a performance requirement, critical elements to consider for the vehicle to remain compliant, impact on the performance and on-road if a vehicle fails to comply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When payload heights are less than bin heights – in case of a breach, impact of vehicle’s performance against standards and also on road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8190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Draw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clude vehicle’s CoG details in the draw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Maximum axle group masses that can be permitted – cap GCM of GV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Currency of assessor’s data with some support from applic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dherence to admin tasks requested by PR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pplications should support innovation and bring the industry for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Level 2b applications do not have access to Level 3 network unless they pass bridge formula. Assessors to not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pplication quality, common mistakes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Difficulties encountered with design vari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mendments too close to each other or immediately after an application approval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Set number of amendments for an application – 3. Why? Preservation of desig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Can we be flexible with amendments? To what exten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When to use amendment and when to use a vari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ays to ‘lubricate’ a PBS application to get it through the system more smooth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Upfront discussions with jurisdictions and L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dustries to understand how PBS works and how long it takes to obtain access permits from jurisdictions – consider this when planning product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Resolution of access – covered as part of R2 of NHVL; jurisdictions to declare access networks to PBS vehicles; vehicles can operate under notices. Jurisdictions to be open minded when considering expanding the network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Jurisdictions to be more open minded when reviewing innovations – approving innovative axle groups or trialling access to 2.6m wide vehic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1:08:43Z</dcterms:created>
  <dc:creator>Robert Black</dc:creator>
  <dc:description/>
  <dc:language>en-US</dc:language>
  <cp:lastModifiedBy>Sri Kannan</cp:lastModifiedBy>
  <dcterms:modified xsi:type="dcterms:W3CDTF">2013-02-27T23:03:05Z</dcterms:modified>
  <cp:revision>10</cp:revision>
  <dc:subject/>
  <dc:title>PowerPoint Presentation</dc:title>
</cp:coreProperties>
</file>