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4CD9-BE86-4706-8951-0483E17F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57B9-93BE-4DB4-8A1D-69C72344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A0F-4617-414C-A45F-E496647D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0FE3-9C17-4528-8B1B-1531E456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2664-94CC-49F1-A2DF-322D78A7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3C6-1E63-4E96-875C-B8BFCCE13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0BF-0A12-48CD-A3DC-C61CC702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F0F-7B11-4883-9C63-9FE7D606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C3AE-C28D-481E-A87A-BD7CC1BE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AFDE-60E9-433F-8624-80F03E0B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5CC-45B5-4CE0-B96F-31CC0312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04A-885D-46EF-ADCF-DCA34FE5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Straight Connector 4"/>
          <p:cNvSpPr/>
          <p:nvPr/>
        </p:nvSpPr>
        <p:spPr>
          <a:xfrm>
            <a:off x="-114480" y="2678040"/>
            <a:ext cx="94107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Straight Connector 5"/>
          <p:cNvSpPr/>
          <p:nvPr/>
        </p:nvSpPr>
        <p:spPr>
          <a:xfrm>
            <a:off x="-114480" y="1949400"/>
            <a:ext cx="941076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923760" y="595440"/>
            <a:ext cx="66153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500" spc="-1" strike="noStrike">
                <a:solidFill>
                  <a:srgbClr val="ffffff"/>
                </a:solidFill>
                <a:latin typeface="Arial"/>
                <a:ea typeface="Arial"/>
              </a:rPr>
              <a:t>Presentation</a:t>
            </a:r>
            <a:endParaRPr b="0" lang="en-US" sz="65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491160" y="808200"/>
            <a:ext cx="1973520" cy="108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Gradient_BK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0060E4-2789-4709-87B2-67754D85E3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2160" y="2894040"/>
            <a:ext cx="744048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s and Coach PBS Issue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2160" y="2030040"/>
            <a:ext cx="806616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uke Hardy Bus Industry Confede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7337520" y="5702400"/>
            <a:ext cx="94140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s and Coach Indust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 Australian Bus Industry in Brief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As of January 2011, there were 87,883 registered buses in Australia.</a:t>
            </a:r>
            <a:r>
              <a:rPr b="0" lang="en-AU" sz="2000" spc="-1" strike="noStrike" baseline="30000">
                <a:solidFill>
                  <a:srgbClr val="ffffff"/>
                </a:solidFill>
                <a:latin typeface="Calibri"/>
              </a:rPr>
              <a:t>(1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se buses are operated by more than 3,000 bus companies across the country.</a:t>
            </a:r>
            <a:r>
              <a:rPr b="0" lang="en-AU" sz="2000" spc="-1" strike="noStrike" baseline="30000">
                <a:solidFill>
                  <a:srgbClr val="ffffff"/>
                </a:solidFill>
                <a:latin typeface="Calibri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More than 50,000 people are employed in the Australian bus industry with 10,000 people working in the bus manufacturing sector. </a:t>
            </a:r>
            <a:r>
              <a:rPr b="0" lang="en-AU" sz="2000" spc="-1" strike="noStrike" baseline="30000">
                <a:solidFill>
                  <a:srgbClr val="ffffff"/>
                </a:solidFill>
                <a:latin typeface="Calibri"/>
              </a:rPr>
              <a:t>(2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 bus industry services 1.5 billion urban public transport passengers per year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 coach sector of the industry move more than 1.6 million domestic travellers per year. </a:t>
            </a:r>
            <a:r>
              <a:rPr b="0" lang="en-AU" sz="2000" spc="-1" strike="noStrike" baseline="30000">
                <a:solidFill>
                  <a:srgbClr val="ffffff"/>
                </a:solidFill>
                <a:latin typeface="Calibri"/>
              </a:rPr>
              <a:t>(3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ypically there are around  1500 new buses delivered to the Australian market annually. </a:t>
            </a:r>
            <a:r>
              <a:rPr b="0" lang="en-AU" sz="2000" spc="-1" strike="noStrike" baseline="30000">
                <a:solidFill>
                  <a:srgbClr val="ffffff"/>
                </a:solidFill>
                <a:latin typeface="Calibri"/>
              </a:rPr>
              <a:t>(4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7815240" y="5945040"/>
            <a:ext cx="882720" cy="5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S and Coach PB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487160"/>
            <a:ext cx="822960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PBS in the Bus and Coach Industry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 ADR’s allow for rigid buses up to 12.5 m in length and articulated buses up to 18 m in length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PBS is used for higher capacity buses which do not fall into the traditional ADR bus siz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Buses that have been through the PBS process include some of the high passenger capacity 14.5 m rigid city buses and  three axle 13.5 m coach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High passenger capacity buses, super buses, (longer vehicles ,  bi-tri articulated  and double deckers) are not being introduced due partly to restricted road acces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Such restrictions are due to a range of issues not just PBS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8028000" y="6008760"/>
            <a:ext cx="88416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BS Bus and Coach Number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Uptake of PBS in the bus industry is quite low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 graph shows that up until 2011 only 4% of the total PBS applications processed were for buses or coaches</a:t>
            </a:r>
            <a:r>
              <a:rPr b="0" lang="en-AU" sz="2000" spc="-1" strike="noStrike" baseline="30000">
                <a:solidFill>
                  <a:srgbClr val="ffffff"/>
                </a:solidFill>
                <a:latin typeface="Calibri"/>
              </a:rPr>
              <a:t>(5) </a:t>
            </a: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 and this trend has not changed in recent times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is figure is low considering the productivity improvements of higher capacity buses and coaches which , depending on type and configuration, can increase passenger capacity from 15% up to 50%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5257800" y="3919680"/>
            <a:ext cx="3429000" cy="2517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7891560" y="5983200"/>
            <a:ext cx="8827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the Low PBS Number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2876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In summary, the reasons ar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Various States allow for 14.5 m buses without needing PBS (NSW, ACT, QLD, etc.). Hence operators take this option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Buses typically perform very well in all of PBS aspects except the areas of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Low Speed Swept Path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Frontal Swing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and Tail Swing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Some of the reasons for this ar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 need to comply with the DDA (front door width to accommodate Wheelchair Ramps,  hence long front overhangs),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Variations in Rear Overhang from State to State, QLD 4.7 metres or 70% wheelbase, NSW 4.9 metres or 70% wheelbase, VIC - 4.3 m or 60% wheelbas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7891560" y="5983200"/>
            <a:ext cx="8827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y the Low PBS Numbers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879560"/>
            <a:ext cx="822960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Low Level of PBS take-up continued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 steerable tag 13.5 and 14.5 m buses are especially effected by </a:t>
            </a:r>
            <a:r>
              <a:rPr b="1" i="1" lang="en-AU" sz="2000" spc="-1" strike="noStrike">
                <a:solidFill>
                  <a:srgbClr val="ffffff"/>
                </a:solidFill>
                <a:latin typeface="Calibri"/>
              </a:rPr>
              <a:t>tail swing</a:t>
            </a: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, but these buses perform very well on the roa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 general level of knowledge of PBS in the Bus and  Coach industry is low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There needs to be Bus and Coach specific modelling developed and agree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PBS needs to be futher promoted within the Bus and Coach Industry by BI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In the end, the Bus and Coach Industry needs to be more actively involved with NHVR and the NTC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7891560" y="5983200"/>
            <a:ext cx="8827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us and Coach Indust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alibri"/>
              </a:rPr>
              <a:t>END OF PRESENT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Calibri"/>
              </a:rPr>
              <a:t>References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(1)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ABS Census of motor vehicle – January 2011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(2)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2010, Industry Survey, Bus Industry Confederation of Australia, 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Canber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(3)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Tourism Research Australia, 2008, Transport Fact Sheet, Department 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of Resources, Energy and Tourism, Canberra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(4)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Bus Industry Confederation, 2011, Based on bus sales data recorded 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in Australasian Bus and Coach Magazine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(5)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National Transport Commission Performance Based Standards – 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AU" sz="2000" spc="-1" strike="noStrike">
                <a:solidFill>
                  <a:srgbClr val="ffffff"/>
                </a:solidFill>
                <a:latin typeface="Calibri"/>
              </a:rPr>
              <a:t>Regulatory Impact Statement December 2011 </a:t>
            </a:r>
            <a:r>
              <a:rPr b="1" i="1" lang="en-AU" sz="2000" spc="-1" strike="noStrike">
                <a:solidFill>
                  <a:srgbClr val="ffffff"/>
                </a:solidFill>
                <a:latin typeface="Calibri"/>
              </a:rPr>
              <a:t>ISBN: 978-1-921604-8</a:t>
            </a:r>
            <a:r>
              <a:rPr b="1" lang="en-A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" name="Picture 3" descr="BIC_Moving_People_1.png"/>
          <p:cNvPicPr/>
          <p:nvPr/>
        </p:nvPicPr>
        <p:blipFill>
          <a:blip r:embed="rId1"/>
          <a:stretch/>
        </p:blipFill>
        <p:spPr>
          <a:xfrm>
            <a:off x="7429680" y="5857920"/>
            <a:ext cx="114300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1:08:43Z</dcterms:created>
  <dc:creator>Robert Black</dc:creator>
  <dc:description/>
  <dc:language>en-US</dc:language>
  <cp:lastModifiedBy>Luke</cp:lastModifiedBy>
  <dcterms:modified xsi:type="dcterms:W3CDTF">2013-03-04T01:10:22Z</dcterms:modified>
  <cp:revision>19</cp:revision>
  <dc:subject/>
  <dc:title>PowerPoint Presentation</dc:title>
</cp:coreProperties>
</file>