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6FF11A-55E9-48CF-A8D4-06EFB9B7E60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 an expert on tyre model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6 degrees of freedom 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7CDFD5-31A5-42BC-84F5-737D831D1E74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A tyre when rolling freely in a direction when subject to side force ( camber / wind) will follow a path at an angle to the original direction. The difference between vehicle &amp; tyre is Slip angle Lateral force requires a slip angle. Slip angle means there is lateral for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alibri"/>
              </a:rPr>
              <a:t>Self aligning force is the resistance of the tyre to distort in the contact pat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4B1AD0-5A74-46B9-96A9-892AB43EF3C9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esting facilities are subject to audit for compli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2D35D-6A95-4B4A-8011-F2C4C0F05C07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railer tyres are not measured in partic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Vehicle manufacturers have played a role in these models to improve safe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ll market with low volume traditional dimen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B712D8-499D-4208-A955-6DCF3961F8CF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 influence of tyre stiffness is related to load/pressure rim width. Road surface/ weather conditions &amp; vehicle speed also contrib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CA72B-572C-4D47-AABF-751764D789EC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lding of data by central point to ensure real data is avail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Grading of products to protect intellectual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sider the operators requirement to purchase ty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Consider some replacement of tyres occurs in th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or reduced tyre costs can we use retread for PBS vehicles? Different casing with different age &amp; different tread comp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362437-451B-4245-9202-D0FB7E261DE5}" type="slidenum">
              <a:rPr b="0" lang="en-A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17C-2672-4E1B-9EFC-7332F2F78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4E75-A7F9-4D27-BD95-C2914A91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8EC-2131-4619-BA8E-75421C06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E498-7948-410A-9C05-B743A43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E6F-D28F-4312-9404-A71EBF66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ADC-7479-4A3E-888E-89F77AC2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F199-7E7F-43DC-AACD-5B64562D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67C-4AC2-4FAF-89EB-A2CA3E3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7534-DB79-48DC-A3F4-F75DBBE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FF2-F981-4D22-8C2D-911225B75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A53-D3D5-40D0-8C7A-DB8D5609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6E8-7BAC-4B44-83CA-1B996AF6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-114480" y="2678040"/>
            <a:ext cx="941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Straight Connector 5"/>
          <p:cNvSpPr/>
          <p:nvPr/>
        </p:nvSpPr>
        <p:spPr>
          <a:xfrm>
            <a:off x="-114480" y="1949400"/>
            <a:ext cx="941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923760" y="595440"/>
            <a:ext cx="6615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491160" y="808200"/>
            <a:ext cx="1973520" cy="10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878FC-E223-45E8-9776-D728A3058F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1800" y="2894040"/>
            <a:ext cx="728676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91800" y="2030040"/>
            <a:ext cx="728676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y Peter Heatley - Micheli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The tyre is the only point in contact with the roa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alibri"/>
              </a:rPr>
              <a:t>Apart from carrying the load it provides the means for steering braking &amp; cornerin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402732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BS submissions require the use of tyre data assessors to establish vehicle performan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Data required is self aligning moment &amp; cornering forc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ese measurements are not automatically conducted on all ty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Original equipment manufacturers use longitudinal &amp; lateral stiffness in vehicle desig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Self Aligning Torqu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Cornering For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Content Placeholder 10" descr="App0002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23960" y="2201760"/>
            <a:ext cx="3654360" cy="3967200"/>
          </a:xfrm>
          <a:prstGeom prst="rect">
            <a:avLst/>
          </a:prstGeom>
          <a:ln w="0">
            <a:noFill/>
          </a:ln>
        </p:spPr>
      </p:pic>
      <p:pic>
        <p:nvPicPr>
          <p:cNvPr id="143" name="Content Placeholder 11" descr="Y"/>
          <p:cNvPicPr/>
          <p:nvPr/>
        </p:nvPicPr>
        <p:blipFill>
          <a:blip r:embed="rId2"/>
          <a:stretch/>
        </p:blipFill>
        <p:spPr>
          <a:xfrm>
            <a:off x="4802040" y="2201760"/>
            <a:ext cx="36529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Measurements conducted in approved laboratori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rocess subject to audi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3" descr="D:\Marco Polo\photos\Nouveau-2.JPG"/>
          <p:cNvPicPr/>
          <p:nvPr/>
        </p:nvPicPr>
        <p:blipFill>
          <a:blip r:embed="rId1"/>
          <a:stretch/>
        </p:blipFill>
        <p:spPr>
          <a:xfrm>
            <a:off x="4802040" y="3597120"/>
            <a:ext cx="3670560" cy="2422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"/>
          <p:cNvPicPr/>
          <p:nvPr/>
        </p:nvPicPr>
        <p:blipFill>
          <a:blip r:embed="rId2"/>
          <a:stretch/>
        </p:blipFill>
        <p:spPr>
          <a:xfrm>
            <a:off x="800280" y="3611520"/>
            <a:ext cx="36255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ongitudinal Stiff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0" name="Content Placeholder 3" descr=""/>
          <p:cNvPicPr/>
          <p:nvPr/>
        </p:nvPicPr>
        <p:blipFill>
          <a:blip r:embed="rId1"/>
          <a:stretch/>
        </p:blipFill>
        <p:spPr>
          <a:xfrm>
            <a:off x="465120" y="2174760"/>
            <a:ext cx="4024440" cy="395136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alibri"/>
              </a:rPr>
              <a:t>Lateral Stiffne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2" name="Content Placeholder 3" descr=""/>
          <p:cNvPicPr/>
          <p:nvPr/>
        </p:nvPicPr>
        <p:blipFill>
          <a:blip r:embed="rId2"/>
          <a:srcRect l="0" t="935" r="20002" b="0"/>
          <a:stretch/>
        </p:blipFill>
        <p:spPr>
          <a:xfrm>
            <a:off x="4656240" y="2174760"/>
            <a:ext cx="401940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 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Three categories of truck tyres – Front axle, Drive axle, trailer ax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ll have differing design requirements – Steering input , torque applied, load carry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Approving sub-assemblies and key component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All data should be held by central administration to validate authenticity - NHV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Potential to grade products – A, B, C etc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End users contacting requesting PBS approved tyr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Roadside service iss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</a:rPr>
              <a:t>Can a PBS vehicle use re-tread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276200" y="2835360"/>
            <a:ext cx="659160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1:08:43Z</dcterms:created>
  <dc:creator>Robert Black</dc:creator>
  <dc:description/>
  <dc:language>en-US</dc:language>
  <cp:lastModifiedBy>WZ00099</cp:lastModifiedBy>
  <cp:lastPrinted>2013-03-03T22:48:45Z</cp:lastPrinted>
  <dcterms:modified xsi:type="dcterms:W3CDTF">2013-03-04T01:48:49Z</dcterms:modified>
  <cp:revision>30</cp:revision>
  <dc:subject/>
  <dc:title>PowerPoint Presentation</dc:title>
</cp:coreProperties>
</file>