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EEE78-E51C-4741-9C30-A083373D845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6B666-3C69-40F8-89D5-199749FF824F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977D1-9BEF-4CF3-B983-09249C9781AC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2D749-345F-4B18-8423-85B8FDBAB9FD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DC80E-53CF-46A9-AA42-26FE78F70376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EDA44-2453-4E27-8370-ECDA226AAF2F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13DE0-1745-4263-9D2B-2CDC6F7EB5B1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C1CC-6CF6-4F70-A125-E044929D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466-80E6-4BDB-B55B-834EFFF0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B38C-9054-4116-8EA9-32D0CA2E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D02-B9D8-4E1A-ABB0-4D528CE0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058B-D310-40BD-AC4F-471EDD0F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FD7-A063-4E80-857F-DAECD339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3B8E-6793-4B24-8C51-A430A00A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3577-3548-440E-9ECC-95FCED4A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61FF-C6D6-4820-914E-DE5B0F88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553A-30D2-4A23-B9EF-CEEED46F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A07-56D6-4AF1-96E5-0372F3CC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77E-87FF-47AF-9AC5-3ED5752C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Gradient_B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Gradient_B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Straight Connector 4"/>
          <p:cNvSpPr/>
          <p:nvPr/>
        </p:nvSpPr>
        <p:spPr>
          <a:xfrm>
            <a:off x="-114480" y="2678040"/>
            <a:ext cx="9410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Straight Connector 5"/>
          <p:cNvSpPr/>
          <p:nvPr/>
        </p:nvSpPr>
        <p:spPr>
          <a:xfrm>
            <a:off x="-114480" y="1949400"/>
            <a:ext cx="941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923760" y="595440"/>
            <a:ext cx="66153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"/>
                <a:ea typeface="Arial"/>
              </a:rPr>
              <a:t>Presentation</a:t>
            </a:r>
            <a:endParaRPr b="0" lang="en-US" sz="6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6491160" y="808200"/>
            <a:ext cx="1973520" cy="108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Gradient_B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58907-F1A9-4396-836E-97FD49BDC6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1800" y="2894040"/>
            <a:ext cx="728676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lf certifica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ular assessme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91800" y="2030040"/>
            <a:ext cx="728676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y Jose Arredond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BS Schem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85680" y="1681200"/>
            <a:ext cx="8839080" cy="4059360"/>
          </a:xfrm>
          <a:prstGeom prst="rect">
            <a:avLst/>
          </a:prstGeom>
          <a:ln w="0">
            <a:noFill/>
          </a:ln>
        </p:spPr>
      </p:pic>
      <p:pic>
        <p:nvPicPr>
          <p:cNvPr id="135" name="Rounded Rectangular Callout 4" descr=""/>
          <p:cNvPicPr/>
          <p:nvPr/>
        </p:nvPicPr>
        <p:blipFill>
          <a:blip r:embed="rId2"/>
          <a:stretch/>
        </p:blipFill>
        <p:spPr>
          <a:xfrm>
            <a:off x="2481120" y="2266920"/>
            <a:ext cx="14446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lf certific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8" descr="C:\Users\ARREDO~1\AppData\Local\Temp\SNAGHTML1538b16.PNG"/>
          <p:cNvPicPr/>
          <p:nvPr/>
        </p:nvPicPr>
        <p:blipFill>
          <a:blip r:embed="rId1"/>
          <a:stretch/>
        </p:blipFill>
        <p:spPr>
          <a:xfrm>
            <a:off x="2179800" y="1287360"/>
            <a:ext cx="4297320" cy="455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2"/>
          <a:stretch/>
        </p:blipFill>
        <p:spPr>
          <a:xfrm>
            <a:off x="2276640" y="1844640"/>
            <a:ext cx="4314600" cy="11365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4325760" y="1187280"/>
            <a:ext cx="1379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700" spc="-1" strike="noStrike">
                <a:solidFill>
                  <a:srgbClr val="ffffff"/>
                </a:solidFill>
                <a:latin typeface="Calibri"/>
              </a:rPr>
              <a:t>© http://scheierassociates.com/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4673520" y="1644480"/>
            <a:ext cx="1378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700" spc="-1" strike="noStrike">
                <a:solidFill>
                  <a:srgbClr val="ffffff"/>
                </a:solidFill>
                <a:latin typeface="Calibri"/>
              </a:rPr>
              <a:t>© Vicroads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ounded Rectangle 2"/>
          <p:cNvSpPr/>
          <p:nvPr/>
        </p:nvSpPr>
        <p:spPr>
          <a:xfrm>
            <a:off x="3524400" y="3324240"/>
            <a:ext cx="1942920" cy="533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2012 PBS R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Right Arrow 3"/>
          <p:cNvSpPr/>
          <p:nvPr/>
        </p:nvSpPr>
        <p:spPr>
          <a:xfrm>
            <a:off x="5676840" y="3343320"/>
            <a:ext cx="885960" cy="49536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Right Arrow 17"/>
          <p:cNvSpPr/>
          <p:nvPr/>
        </p:nvSpPr>
        <p:spPr>
          <a:xfrm rot="10800000">
            <a:off x="2391840" y="3343320"/>
            <a:ext cx="885960" cy="49536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41280" y="4229280"/>
            <a:ext cx="318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A Certifier must not certify a vehicle if the Certifier has been involved in the propos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Box 19"/>
          <p:cNvSpPr/>
          <p:nvPr/>
        </p:nvSpPr>
        <p:spPr>
          <a:xfrm>
            <a:off x="5467320" y="4229280"/>
            <a:ext cx="3184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A Certifier </a:t>
            </a:r>
            <a:r>
              <a:rPr b="1" i="1" lang="en-AU" sz="2800" spc="-1" strike="noStrike" u="sng">
                <a:solidFill>
                  <a:srgbClr val="ffffff"/>
                </a:solidFill>
                <a:uFillTx/>
                <a:latin typeface="Calibri"/>
              </a:rPr>
              <a:t>can</a:t>
            </a: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 certify a vehicle if the Certifier has been involved in the propos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Box 6"/>
          <p:cNvSpPr/>
          <p:nvPr/>
        </p:nvSpPr>
        <p:spPr>
          <a:xfrm rot="16200000">
            <a:off x="3358080" y="4655160"/>
            <a:ext cx="219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Calibri"/>
              </a:rPr>
              <a:t>NHVR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ular Assessme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8" descr="C:\Users\ARREDO~1\AppData\Local\Temp\SNAGHTML1cfc089.PNG"/>
          <p:cNvPicPr/>
          <p:nvPr/>
        </p:nvPicPr>
        <p:blipFill>
          <a:blip r:embed="rId1"/>
          <a:stretch/>
        </p:blipFill>
        <p:spPr>
          <a:xfrm>
            <a:off x="249120" y="2602080"/>
            <a:ext cx="8931240" cy="2035080"/>
          </a:xfrm>
          <a:prstGeom prst="rect">
            <a:avLst/>
          </a:prstGeom>
          <a:ln w="0">
            <a:noFill/>
          </a:ln>
        </p:spPr>
      </p:pic>
      <p:sp>
        <p:nvSpPr>
          <p:cNvPr id="149" name="Rounded Rectangle 7"/>
          <p:cNvSpPr/>
          <p:nvPr/>
        </p:nvSpPr>
        <p:spPr>
          <a:xfrm>
            <a:off x="162000" y="4772160"/>
            <a:ext cx="3504960" cy="1790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5680" indent="-856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Wheelb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85680" indent="-856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Front Overha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85680" indent="-856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Drive group tandem axle sprea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85680" indent="-856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Steer and drive tyre siz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85680" indent="-856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Powertrain requiremen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Rounded Rectangle 18"/>
          <p:cNvSpPr/>
          <p:nvPr/>
        </p:nvSpPr>
        <p:spPr>
          <a:xfrm>
            <a:off x="5295960" y="4772160"/>
            <a:ext cx="3505320" cy="1790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5680" indent="-856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S dimens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85680" indent="-856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Forward projec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85680" indent="-856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Fifth wheel lead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85680" indent="-856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Rear overha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85680" indent="-856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trailer axle sprea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85680" indent="-856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Suspension properti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Right Arrow 1"/>
          <p:cNvSpPr/>
          <p:nvPr/>
        </p:nvSpPr>
        <p:spPr>
          <a:xfrm>
            <a:off x="4143240" y="5038560"/>
            <a:ext cx="9144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ight Arrow 9"/>
          <p:cNvSpPr/>
          <p:nvPr/>
        </p:nvSpPr>
        <p:spPr>
          <a:xfrm rot="10800000">
            <a:off x="4076640" y="5667480"/>
            <a:ext cx="914400" cy="76176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PBS – Manufacturer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Down Arrow 11"/>
          <p:cNvSpPr/>
          <p:nvPr/>
        </p:nvSpPr>
        <p:spPr>
          <a:xfrm>
            <a:off x="476280" y="5305320"/>
            <a:ext cx="1038240" cy="857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Down Arrow 13"/>
          <p:cNvSpPr/>
          <p:nvPr/>
        </p:nvSpPr>
        <p:spPr>
          <a:xfrm>
            <a:off x="2486160" y="5305320"/>
            <a:ext cx="1038240" cy="857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Down Arrow 14"/>
          <p:cNvSpPr/>
          <p:nvPr/>
        </p:nvSpPr>
        <p:spPr>
          <a:xfrm>
            <a:off x="5343480" y="5305320"/>
            <a:ext cx="1038240" cy="857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Down Arrow 15"/>
          <p:cNvSpPr/>
          <p:nvPr/>
        </p:nvSpPr>
        <p:spPr>
          <a:xfrm>
            <a:off x="7648560" y="5305320"/>
            <a:ext cx="1038240" cy="857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114480" y="632448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List of suspension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TextBox 17"/>
          <p:cNvSpPr/>
          <p:nvPr/>
        </p:nvSpPr>
        <p:spPr>
          <a:xfrm>
            <a:off x="2247840" y="63244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List of suspension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4881600" y="632448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List of suspension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7110360" y="63244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List of suspension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17" descr=""/>
          <p:cNvPicPr/>
          <p:nvPr/>
        </p:nvPicPr>
        <p:blipFill>
          <a:blip r:embed="rId1"/>
          <a:stretch/>
        </p:blipFill>
        <p:spPr>
          <a:xfrm>
            <a:off x="214200" y="1347840"/>
            <a:ext cx="885852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BS – Modular assessme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93600" y="1351080"/>
            <a:ext cx="8937720" cy="46260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"/>
          <p:cNvSpPr/>
          <p:nvPr/>
        </p:nvSpPr>
        <p:spPr>
          <a:xfrm>
            <a:off x="1019160" y="62676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</a:rPr>
              <a:t>To be released by the end of March 201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1:08:43Z</dcterms:created>
  <dc:creator>Robert Black</dc:creator>
  <dc:description/>
  <dc:language>en-US</dc:language>
  <cp:lastModifiedBy>Jose Arredondo</cp:lastModifiedBy>
  <dcterms:modified xsi:type="dcterms:W3CDTF">2013-03-05T23:25:50Z</dcterms:modified>
  <cp:revision>24</cp:revision>
  <dc:subject/>
  <dc:title>PowerPoint Presentation</dc:title>
</cp:coreProperties>
</file>